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F7F38-0C49-4AEB-85D9-210D73DFE4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BFAD4-D267-4219-9D49-4C271D96F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7F81E-6042-497C-A3A6-15A703308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3E534-A206-455C-B3F9-0D0F74675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00089-7F9E-419E-8BD3-BE76C39CB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2ED11-60F6-4A5D-A42F-3BBFE4414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F4533-9B3A-4FE5-95F3-229097ECF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49744-4DFA-4DD8-B3EE-AA4181923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EB892-8394-414C-9AA7-6E690C5C2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26544-FB92-4738-BE40-A86B34051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9DAC8-91D5-4800-BB6A-49C793448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1E6-E674-49DC-8127-22388808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146-273C-4114-87D1-1A1C0001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242-91BE-4A13-B4EF-A2308F2A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530-4F1B-4EE5-98F9-921D04E5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81BA-8CDC-4323-AE93-78192E05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BD1A-0A1A-4052-8D89-1B323063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7B1C-9BA4-49D2-89F3-96BEF91D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1398-9122-4206-AA39-56AF38E6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F182-4328-46F7-86BB-276E9E87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1E15-E112-4742-8AFE-8F3422CA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F4A6-11CC-4B67-8A43-CE662966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2FA-162A-458E-B604-D1F74A14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34FA-D257-4061-8D36-B77C9EB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2373-E2B4-45E1-8CCD-B66F6DA6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0775-0D02-4BB4-AC54-49DDB1B9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D0B4-A3CA-4668-8B03-F63271B1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E8EC-CFE2-49AD-9198-529CF981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199F-042E-4755-B9C0-72F32C6F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1B49-27AF-453D-BD83-6DA968FF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4548B-B7B8-47F2-8190-3482E0F8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B0D8-B3A6-4E5F-B077-44A0A521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5189-45BD-4E3E-8A75-C92CA9F5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EE4-392F-41C6-93A0-587EA3B6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B4E7-FC22-4C0C-B400-6EB04F5B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730D-81DE-49EE-BCEC-C5D2469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1892-58C9-4E31-BB90-830BEF0F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4252-828E-4220-9332-51B255EF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561E-EC69-4BF8-9CF6-D23BFFF8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FD11-3E83-4A31-BF5C-0BD6314C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887F-3275-4B1A-B6CB-7BAF3DC5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9D01-2225-47B9-8B5B-433AD937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94C3-72B1-457E-8F66-C9E123C5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2FE5-99A5-4180-9ECD-7B50BC92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6D9-950E-46BD-982C-8078555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7231-7BAF-4D5F-9294-86098E88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717A-32AF-407E-AE32-F5746383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B2DDA-DE03-4398-B37C-993C7901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66406-9929-4C2F-8D5E-5C092CF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0C676-A3DC-46BA-9FC2-36F18BE8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5DC2C-A029-4B1E-8D00-60614F9C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3108-F50E-4923-AE86-5A2B6343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37BE-EA97-4C05-842E-F5084DA8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4279-19F9-42FD-BE3A-A2FF5A6C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05883-890E-4E6B-8190-21561D7E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5AC-896E-4836-BFF4-DDD43C81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AD816-8DBA-4580-96A9-CA20E584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2D709-A016-45BD-9935-8ED6C7A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E4CDD-B738-4F0E-B1C4-E7ADAFF8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56AB7-1AC0-44BE-959F-B673319D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8EDCA-1A25-4214-AA0B-9786687E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B17C5-C099-4FCE-8C30-2C3C0027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39CE7-255E-4317-BECD-7160CFA5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8007-4C50-4A50-AE65-1F8544B4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7B10E-C7DC-406E-A681-D87608D9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91CA2-8A0F-4E3A-BABF-90B08982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28C-5D22-4115-9EEC-2937C5B1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BC4C-7C2A-45FF-9639-D0B43ADB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09DEA-8699-4164-9275-33838A8C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F8CED-EDB6-48B3-B8A1-6F7E0A64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89FAE-36F3-4F7E-9D4D-D04CF686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2DED7-B1BF-4DDE-9EA3-E99042A3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EDD9B-7087-4AAE-AC51-D2BD2424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1880-8827-4F88-82C3-FBDBED11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E4EF-076A-4349-AAAA-2BE5700C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AC5C-426A-4589-B1FF-D72AF81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FEDE0-8BAF-4112-88C9-B22A2EB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B12-28EB-4661-A1DF-44EF5FE2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4489-2DA2-4826-8AB4-4C91C7FB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93937-7597-4A54-A739-53C5F988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7743A-C389-4A8A-8F9D-E5F58383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B5941-B3C2-4BA4-84AE-F57D95D3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1E2ED-FA01-40A8-A1A3-97D091C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73DEC-B4A2-4350-A71E-9FC23A74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C960A-0037-487E-8C26-33B15CFD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DDC0-B95F-4754-98CB-AF188F85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5914E-A76D-4438-9F9F-4685103D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747D6-E97E-48ED-84D4-44B11433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F86-E51A-4732-86B2-A26A441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69C47-7B5F-4FE6-AB14-55DC9546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3BA2-E0E1-47BA-A8F8-67739C2F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6DA69-BF84-4243-8A80-6B642CE6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291D4-A517-4B57-A012-707D8FA1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DCE46-6A35-44F8-8C16-93DFD831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39B72-4571-42CE-90C7-84B7EACD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259E1-67C4-411B-A809-C1C07FF4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65893-BF5A-4998-9775-0AC18CD1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B5FD9-1E1D-4E12-955A-A21ECE85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E3367-2E7F-4DDC-9336-C7ED902C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454-069E-4E1F-BB42-3230E565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FD9D-4A93-48CE-9822-A8F182BA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D8F63-FC06-407C-84DE-029BF6E9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6C11-A2E0-463B-A853-90B494D3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20CE6-3D63-4DD3-85C0-3FBFB50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DBF05-A5F7-41E6-9D70-49C972F3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BEC37-3A95-4909-B6A1-1D8CD095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210A9-BCDF-444D-B6BB-E0EB524A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54A60-84C1-4685-8CCC-108855A483D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7C09C-DFF0-4A5E-80FE-7BD354BF669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48F29-6769-476F-B17F-D40F9493C163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79E28-9286-41C5-9F01-2FCE7F679A3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3817F-E682-4002-9883-9CB3FE48D41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3A87C-C0E5-4962-BE32-56CD168FD8E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974FF-03C9-4B49-9E55-3B703DAE2B8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DCD59-1201-4CF6-BFEF-DC74257445F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76458-A756-4548-A287-A30D26D1C63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7E659-FC97-43CD-A512-DC2EF21DE4D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37EF0-95B8-4553-BE96-3824C6EC97C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310F5-4103-4338-8AD1-7E1C8A12180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32861-F695-47E5-9B3A-3DE97C3DB08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0E14B-A10F-48B3-A894-EF396E9308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04D8F-48D7-4F8B-9020-6705EB7C1061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D184C-D29C-4786-85E7-E2E31D33641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filibustercartoons.com/nikit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archives.cnn.com/2000/US/03/31/cuba.boy.02/map.florida.cuba.miami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uventudrebelde.cu/UserFiles/Image/2006/agosto/fidel-castro/fidel-castro-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028840" y="960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o Now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the tips and tricks for analyzing a political carto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n, analyze the meaning and symbols of the political cartoon on your worksheet. Be as detailed as possi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1026" descr=""/>
          <p:cNvPicPr/>
          <p:nvPr/>
        </p:nvPicPr>
        <p:blipFill>
          <a:blip r:embed="rId1"/>
          <a:stretch/>
        </p:blipFill>
        <p:spPr>
          <a:xfrm>
            <a:off x="225360" y="378000"/>
            <a:ext cx="8925120" cy="109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28" descr="nikit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960480"/>
            <a:ext cx="5205240" cy="55926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2568600" y="3096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607000" y="5532480"/>
            <a:ext cx="33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What is t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ain idea her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President Kennedy announced that American warships would stop any Soviet ship carrying missi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Picture 3" descr="Armwrestling"/>
          <p:cNvPicPr/>
          <p:nvPr/>
        </p:nvPicPr>
        <p:blipFill>
          <a:blip r:embed="rId1"/>
          <a:srcRect l="2284" t="8038" r="8149" b="5741"/>
          <a:stretch/>
        </p:blipFill>
        <p:spPr>
          <a:xfrm>
            <a:off x="304920" y="925560"/>
            <a:ext cx="86835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nyt1"/>
          <p:cNvPicPr/>
          <p:nvPr/>
        </p:nvPicPr>
        <p:blipFill>
          <a:blip r:embed="rId1"/>
          <a:srcRect l="5900" t="3781" r="0" b="27016"/>
          <a:stretch/>
        </p:blipFill>
        <p:spPr>
          <a:xfrm>
            <a:off x="1066680" y="228600"/>
            <a:ext cx="7778880" cy="449568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3"/>
          <p:cNvSpPr/>
          <p:nvPr/>
        </p:nvSpPr>
        <p:spPr>
          <a:xfrm>
            <a:off x="0" y="5029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ult:  President Kennedy blockaded Cuba and forced the Soviets to remove the missiles.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3"/>
          <p:cNvSpPr/>
          <p:nvPr/>
        </p:nvSpPr>
        <p:spPr>
          <a:xfrm>
            <a:off x="5257800" y="175248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Leade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kita Khrushche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Picture 4" descr="1101610908_400"/>
          <p:cNvPicPr/>
          <p:nvPr/>
        </p:nvPicPr>
        <p:blipFill>
          <a:blip r:embed="rId1"/>
          <a:stretch/>
        </p:blipFill>
        <p:spPr>
          <a:xfrm>
            <a:off x="0" y="6480"/>
            <a:ext cx="5200560" cy="6851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522760" y="442800"/>
            <a:ext cx="3426120" cy="1005120"/>
          </a:xfrm>
          <a:prstGeom prst="rect">
            <a:avLst/>
          </a:prstGeom>
          <a:ln w="0">
            <a:noFill/>
          </a:ln>
        </p:spPr>
      </p:pic>
      <p:sp>
        <p:nvSpPr>
          <p:cNvPr id="417" name="TextBox 4"/>
          <p:cNvSpPr/>
          <p:nvPr/>
        </p:nvSpPr>
        <p:spPr>
          <a:xfrm>
            <a:off x="5743440" y="3336840"/>
            <a:ext cx="32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Known Fo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is enthusiastic belief that Communism would triumph over capitalism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nikita"/>
          <p:cNvPicPr/>
          <p:nvPr/>
        </p:nvPicPr>
        <p:blipFill>
          <a:blip r:embed="rId1"/>
          <a:stretch/>
        </p:blipFill>
        <p:spPr>
          <a:xfrm>
            <a:off x="0" y="1440"/>
            <a:ext cx="4570560" cy="68565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"/>
          <p:cNvSpPr/>
          <p:nvPr/>
        </p:nvSpPr>
        <p:spPr>
          <a:xfrm>
            <a:off x="4572000" y="0"/>
            <a:ext cx="4572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I found myself in the difficult position of having to decide on a course of action which would answer the American threat but which would also avoid war.  Any fool can start a war, and once he's done so, even the wisest of men are helpless to stop it-- especially if its a nuclear war.”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Nikita Khrushche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944640" y="487440"/>
            <a:ext cx="75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lairMdITC TT Medium"/>
              </a:rPr>
              <a:t>Perspectives Activity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523880" y="2263680"/>
          <a:ext cx="6096240" cy="3276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omebody Wanted to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But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o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7621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uba, Soviet Union,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139760" y="133200"/>
            <a:ext cx="6943680" cy="1530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8520" y="2189160"/>
            <a:ext cx="5867280" cy="4476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4"/>
          <a:stretch/>
        </p:blipFill>
        <p:spPr>
          <a:xfrm>
            <a:off x="6740640" y="3459240"/>
            <a:ext cx="190476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6969240" y="2614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JUST KEEP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WIMMING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0" y="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59, a young Fidel Castro led a communist revolution in Cuba, causing thousands of Cubans to flee to the United Stat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3" descr="fidel-castro-4">
            <a:hlinkClick r:id="rId1"/>
          </p:cNvPr>
          <p:cNvPicPr/>
          <p:nvPr/>
        </p:nvPicPr>
        <p:blipFill>
          <a:blip r:embed="rId2"/>
          <a:srcRect l="13233" t="2721" r="14682" b="10400"/>
          <a:stretch/>
        </p:blipFill>
        <p:spPr>
          <a:xfrm>
            <a:off x="5410080" y="914400"/>
            <a:ext cx="3025800" cy="5484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young_castro_2"/>
          <p:cNvPicPr/>
          <p:nvPr/>
        </p:nvPicPr>
        <p:blipFill>
          <a:blip r:embed="rId3"/>
          <a:stretch/>
        </p:blipFill>
        <p:spPr>
          <a:xfrm>
            <a:off x="304920" y="914400"/>
            <a:ext cx="4122720" cy="54864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304920" y="6338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del Castro, 195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334120" y="6338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del Castro, 200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y of Pigs Invas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The U.S. became worried as Cuba received increased amounts of aid from the Soviet Un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0" y="1905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1961, President John F. Kennedy approved of a plan by the CIA to overthrow Castro’s government with the help of Cub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i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5" descr="Image:BayofPigs.jpg"/>
          <p:cNvPicPr/>
          <p:nvPr/>
        </p:nvPicPr>
        <p:blipFill>
          <a:blip r:embed="rId1"/>
          <a:stretch/>
        </p:blipFill>
        <p:spPr>
          <a:xfrm>
            <a:off x="0" y="3289320"/>
            <a:ext cx="9140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6367320" cy="4503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-1140480" y="612720"/>
            <a:ext cx="120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 Condensed"/>
              </a:rPr>
              <a:t>Why do you feel Cuban exiles were chosen to assist in this missio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The exiles landed at the Bay of Pigs in Southern Cuba where they were easily defeated by Cuban forces, strengthening Fidel Castro and embarrassing the United Stat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3" descr="castro-1"/>
          <p:cNvPicPr/>
          <p:nvPr/>
        </p:nvPicPr>
        <p:blipFill>
          <a:blip r:embed="rId1"/>
          <a:stretch/>
        </p:blipFill>
        <p:spPr>
          <a:xfrm>
            <a:off x="0" y="1374840"/>
            <a:ext cx="6664320" cy="54831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6629400" y="206856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del Castro, parading through the streets of Havana after his victory against Cuban expatriates in the Bay of Pigs invasion. (1961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222120" y="87156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ヒラギノ角ゴ Pro W3"/>
              </a:rPr>
              <a:t>Two of the ships were sunk, including the ship that was carrying most of the suppli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ヒラギノ角ゴ Pro W3"/>
              </a:rPr>
              <a:t>Two of the planes that were attempting to give                air-cover were also shot down. Within 72hours all the invading troops had been killed, wounded or had surrendered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521000" y="49536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ple Chancery"/>
              </a:rPr>
              <a:t>Some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NOT SO GREAT </a:t>
            </a:r>
            <a:r>
              <a:rPr b="0" lang="en-US" sz="2800" spc="-1" strike="noStrike">
                <a:solidFill>
                  <a:srgbClr val="000000"/>
                </a:solidFill>
                <a:latin typeface="Apple Chancery"/>
              </a:rPr>
              <a:t>Results. . .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4667400" y="3917880"/>
            <a:ext cx="3809880" cy="2793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5"/>
          <p:cNvSpPr/>
          <p:nvPr/>
        </p:nvSpPr>
        <p:spPr>
          <a:xfrm>
            <a:off x="743040" y="43448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Fidel watching the Bay of Pig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From a tank near Playa Grio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0" y="4503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mericans, two of whom were eventually executed, are arrested in April 1961. They were accused by the Cuban government of smuggling guns to anti-Communist rebels a few days before the Bay of Pigs invas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4" descr="eeis_01_img0095%5B1%5D"/>
          <p:cNvPicPr/>
          <p:nvPr/>
        </p:nvPicPr>
        <p:blipFill>
          <a:blip r:embed="rId1"/>
          <a:stretch/>
        </p:blipFill>
        <p:spPr>
          <a:xfrm>
            <a:off x="1143000" y="179280"/>
            <a:ext cx="69469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5181480" y="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uban            Missile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5181480" y="121932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viet Union began to build missile bases in Cuba, worrying Americans that we were vulnerable to attack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4" descr="cuban_missile_crisis"/>
          <p:cNvPicPr/>
          <p:nvPr/>
        </p:nvPicPr>
        <p:blipFill>
          <a:blip r:embed="rId1"/>
          <a:stretch/>
        </p:blipFill>
        <p:spPr>
          <a:xfrm>
            <a:off x="0" y="0"/>
            <a:ext cx="51372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2:03:42Z</dcterms:created>
  <dc:creator>NYCDOE</dc:creator>
  <dc:description/>
  <dc:language>en-US</dc:language>
  <cp:lastModifiedBy>NYCDOE</cp:lastModifiedBy>
  <dcterms:modified xsi:type="dcterms:W3CDTF">2012-04-19T14:29:11Z</dcterms:modified>
  <cp:revision>3</cp:revision>
  <dc:subject/>
  <dc:title>Aim (L51):  How did the Cuban Missile Crisis increase Cold War tensions? </dc:title>
</cp:coreProperties>
</file>